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 Black"/>
              </a:rPr>
              <a:t>Click to move the slide</a:t>
            </a:r>
            <a:endParaRPr b="1" lang="en-US" sz="36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87B9C3-7D56-40C9-A809-B70C7EAE4D4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Espace réservé du numéro de diapositive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0E6CB1-FA4B-45F2-865F-74645E34FE2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B25F-4158-4150-B05E-EBA46E9DF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08200" y="40428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FF1B-6F12-4530-BAA0-323007BDA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08200" y="40428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9204-5A99-49A3-A89B-8C1A33927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08200" y="40428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B791-769F-4C60-A820-CA72A35F7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9AD7F-F60A-4A77-A680-A774AD1CC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08200" y="40428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A2CA6-D816-474D-8263-3340B2F61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08200" y="40428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87640-5FE3-4FAB-AD45-7BF7CD941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08200" y="40428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B2A4C-2390-4668-86F1-0EB89645B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08200" y="40428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056E9-11B0-4629-8202-5FC3F8A9D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08200" y="404280"/>
            <a:ext cx="7067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02E88-80A4-41B6-A5CC-B676F5341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08200" y="40428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D2E58-79B4-4460-9A8F-BF02C9F4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08200" y="40428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D535-1956-4848-8806-855328208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08200" y="40428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0C355-A010-4807-B4C5-D8C0CA0B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08200" y="40428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EDE7E-B6DE-4667-B87D-68223824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08200" y="40428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D89F7-5EB6-4FF3-AEA1-3998B2202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08200" y="40428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69DE7-D10B-43E5-918D-3E8BD7159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08200" y="40428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66EB2-C2B2-45CE-9BDC-18146AFDF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08200" y="40428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FB50-7BC0-4FB5-8B55-512F1774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08200" y="40428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2677-59F1-480D-AB4B-0F359FFCA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08200" y="40428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97A2-281D-4681-A59D-81B7C844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08200" y="404280"/>
            <a:ext cx="7067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F436-23A1-46E2-A71E-C92C9C5D5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08200" y="40428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1004-1B37-43D4-B623-49EADBB8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08200" y="40428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FB23-56C8-49CD-8595-4882F978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08200" y="40428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A797-A3EB-4CE5-903B-8263938F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-27000"/>
            <a:ext cx="916308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08200" y="40428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 Black"/>
              </a:rPr>
              <a:t>Click to edit the title text format</a:t>
            </a:r>
            <a:endParaRPr b="1" lang="en-US" sz="36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960D3E-36E2-4E27-AA18-68C1645005CC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49D1C2-9546-4324-8F0B-D76D731AAB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B7C915-C029-450F-966B-A196468EA7F5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E690D8-2D8F-4C57-B4CB-CA60C66AE4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Image 3" descr=""/>
          <p:cNvPicPr/>
          <p:nvPr/>
        </p:nvPicPr>
        <p:blipFill>
          <a:blip r:embed="rId1"/>
          <a:stretch/>
        </p:blipFill>
        <p:spPr>
          <a:xfrm>
            <a:off x="36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ZoneTexte 10"/>
          <p:cNvSpPr/>
          <p:nvPr/>
        </p:nvSpPr>
        <p:spPr>
          <a:xfrm>
            <a:off x="2679840" y="907920"/>
            <a:ext cx="5678280" cy="21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0" anchor="t">
            <a:spAutoFit/>
          </a:bodyPr>
          <a:p>
            <a:pPr>
              <a:lnSpc>
                <a:spcPts val="5499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TITRE PRINCIPAL DE LA PRÉSENTATION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ZoneTexte 10"/>
          <p:cNvSpPr/>
          <p:nvPr/>
        </p:nvSpPr>
        <p:spPr>
          <a:xfrm>
            <a:off x="2638440" y="4653000"/>
            <a:ext cx="620064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ZoneTexte 4"/>
          <p:cNvSpPr/>
          <p:nvPr/>
        </p:nvSpPr>
        <p:spPr>
          <a:xfrm flipV="1" rot="10800000">
            <a:off x="2638440" y="5985360"/>
            <a:ext cx="447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SOUS-TITRE SI BESOIN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63280" y="620640"/>
            <a:ext cx="69231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 Black"/>
              </a:rPr>
              <a:t>TITRE PRINCIPAL</a:t>
            </a:r>
            <a:endParaRPr b="1" lang="en-US" sz="36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763280" y="1628640"/>
            <a:ext cx="69231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ff6600"/>
                </a:solidFill>
                <a:latin typeface="Arial"/>
              </a:rPr>
              <a:t>Yyyyy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c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vv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AC3ACC-5213-4D3A-86A0-954046FDD2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 Black"/>
              </a:rPr>
              <a:t>XXXXXXX</a:t>
            </a:r>
            <a:endParaRPr b="1" lang="en-US" sz="40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fr-FR" sz="2000" spc="-1" strike="noStrike">
              <a:solidFill>
                <a:srgbClr val="898989"/>
              </a:solidFill>
              <a:latin typeface="Arial"/>
            </a:endParaRPr>
          </a:p>
        </p:txBody>
      </p:sp>
      <p:sp>
        <p:nvSpPr>
          <p:cNvPr id="99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8487D4-DFC9-40CE-A7D7-1C906628DD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12BBAB-B504-4876-9B1D-5A7C1811E8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9T08:56:48Z</dcterms:created>
  <dc:creator>DELAIR Joëlle</dc:creator>
  <dc:description/>
  <dc:language>en-US</dc:language>
  <cp:lastModifiedBy>Eve CAVALLINI</cp:lastModifiedBy>
  <cp:lastPrinted>2015-04-02T08:14:47Z</cp:lastPrinted>
  <dcterms:modified xsi:type="dcterms:W3CDTF">2015-09-07T09:19:57Z</dcterms:modified>
  <cp:revision>193</cp:revision>
  <dc:subject/>
  <dc:title>Diapositive 1</dc:title>
</cp:coreProperties>
</file>