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830-E2EC-410B-B75A-8171C2BADE6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nanowijzer.nl/" TargetMode="External"/><Relationship Id="rId2" Type="http://schemas.openxmlformats.org/officeDocument/2006/relationships/slide" Target="../slides/slide34.xml"/><Relationship Id="rId3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es connaissances sur les risques professionnels liés aux nanomatériaux sont encore parcellaires. Elles s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néanmoins suffisantes pour préconiser la mise en place de mesures adaptées au produit et au scénario d'ex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es mesures visent à éviter ou limiter les expositions des salariés et sont analogues à celles recommandées p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ut produit chimique dangereux : substitution ou modification du procédé (travail en milieu liquide par exempl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élimitation et signalement des zones présentant un risque d'exposition, confinement des procédés, captage 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polluants à la source, formation et information des salariés… En complément des mesures de protection collec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e port d'équipements de protection individuelle est également recommandé : appareil de protection respirat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(APR), combinaison jetable, gants étanches, lunett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A65-A56E-49E0-B5A4-4E70A7CECF6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E259-67D4-4F99-92CF-01B7AF449DF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98DE-068E-4B9C-9BD4-3288B188160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E72-D1C7-4497-B2E3-F72E22AFFB0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anotec.org.uk/report/chapter5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644-433D-43FF-BD87-EEF0A019124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i-dessous se trouve un schéma établi par le syndicat néerlandais FNV (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anowijzer.nl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33F-14F7-44FC-A239-FC28A86D755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Nanomatériau = un matériau naturel, formé accidentellement ou manufacturé contenant des particules libres, sous for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d’agrégat 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d’aggloméra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dont au moins 50 % des particules, dans la répartition numérique par taille, présentent une ou plusieurs dimensions externes se situant entre 1 nm et 1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……</a:t>
            </a: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595959"/>
                </a:solidFill>
                <a:latin typeface="Calibri"/>
                <a:ea typeface="Calibri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95959"/>
                </a:solidFill>
                <a:latin typeface="Calibri"/>
                <a:ea typeface="Calibri"/>
              </a:rPr>
              <a:t>les fullerènes, les flocons de graphène et les nanotubes de carbone à paroi simple présentant une ou plusieurs dimensions externes inférieures à 1 nm sont à considérer comme des nanomatéri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6851-0BA6-4424-A480-5021D147F6B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138-53D2-4EB0-973C-184B82B1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9D7-448A-44C7-A9F8-04D4F8A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230-65AD-49FF-B0A2-4227C090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D24-89BB-4984-9B19-B40EB6D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499-B2B4-4B76-B6D3-67FEA6F7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4AD-5FC9-450C-9303-82D0EC95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478-7AD9-4101-A055-01A3DB9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804-7C7B-40AA-85A4-40EBA84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3FA-5D85-4B15-A668-8F03CEE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B74-3953-417E-8844-8C1105B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EDC-4928-415B-A021-EC0A046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54F-79E3-401B-A907-094981F5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E56-9795-45C9-983C-DA36E63D7E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nanowijzer.nl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Helvetica 55 Roman"/>
              </a:rPr>
              <a:t>Nanomatériaux et travail syndical en Belgique</a:t>
            </a:r>
            <a:br>
              <a:rPr sz="3600"/>
            </a:br>
            <a:br>
              <a:rPr sz="1600"/>
            </a:br>
            <a:r>
              <a:rPr b="1" lang="fr-BE" sz="1600" spc="-1" strike="noStrike">
                <a:solidFill>
                  <a:srgbClr val="ffffff"/>
                </a:solidFill>
                <a:latin typeface="Helvetica 55 Roman"/>
              </a:rPr>
              <a:t>Paris, 04 décembre 2013</a:t>
            </a:r>
            <a:br>
              <a:rPr sz="1600"/>
            </a:br>
            <a:r>
              <a:rPr b="1" lang="fr-BE" sz="1600" spc="-1" strike="noStrike">
                <a:solidFill>
                  <a:srgbClr val="ffffff"/>
                </a:solidFill>
                <a:latin typeface="Helvetica 55 Roman"/>
              </a:rPr>
              <a:t>VERDOOT Caro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:\LOGO\Logos\ABVV\JPG\color\ABVV_FGTB.jpg"/>
          <p:cNvPicPr/>
          <p:nvPr/>
        </p:nvPicPr>
        <p:blipFill>
          <a:blip r:embed="rId2"/>
          <a:stretch/>
        </p:blipFill>
        <p:spPr>
          <a:xfrm>
            <a:off x="4932360" y="189000"/>
            <a:ext cx="406404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onstats (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énéfices évidents et nombreux (médecine, TIC, matériaux divers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Promotion de la R&amp;D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emplo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Question éth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tout marketing vs méfiance (cf.OG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15F-3295-4F9E-9390-10E80413ABA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1C28-8ABD-4934-9F2D-03AD4CBCBB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Arial"/>
              </a:rPr>
              <a:t>Constats (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nque de connaissances scientifiques suffisant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sur les schémas d’exposition et sur risques (tout au long du cyc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nque de méthodes harmonisées et validées pour l’étude des nanomatériau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nque d’information grand public et travailleurs sur les produits présents sur le marché contenant des nanomatériau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nque de suivi approprié des travailleurs et d’application de mesures de prévention adéqu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ntrôle innopérable des autorités (CBE) et des représentants des travailleu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onstats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ubstances chimiques dangereuse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Toutes les formes de nanomatériaux dérivés dangereu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ubstances chimiques non dangereuse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toutes les formes de nanomatériaux dérivés non dangereux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Classification européenne actuelle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ffective pour les nanomatériau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D58-6827-43E9-AEC3-0658E6B1D6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stimations du marché belge (étude BIPR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00-5000 substances uniques,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.000-160.000 mélanges avec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0.000-1.300.000 articles avec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35.000-45.000 entreprises (15 à 20% des entrepri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AAFE-5BDB-490C-8CC3-954F4E9AD3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onnée du SPF Emploi </a:t>
            </a:r>
            <a:br>
              <a:rPr sz="40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(Laboratoire de Toxicologie Industrie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ans les entreprises où sont produits les NM, la forme nano est mentionnée dans la F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hez les utilisateurs industriels/professionnels, la forme nano n’est souvent pas mentionnée dans la F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es entreprises qui </a:t>
            </a:r>
            <a:r>
              <a:rPr b="0" i="1" lang="fr-FR" sz="2500" spc="-1" strike="noStrike">
                <a:solidFill>
                  <a:srgbClr val="000000"/>
                </a:solidFill>
                <a:latin typeface="Arial"/>
              </a:rPr>
              <a:t>savent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qu’elles travaillent avec des NM, prennent des mesures de prévention (systèmes fermés, MP collectives, MP individuel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es entreprises qui </a:t>
            </a:r>
            <a:r>
              <a:rPr b="0" i="1" lang="fr-FR" sz="2500" spc="-1" strike="noStrike">
                <a:solidFill>
                  <a:srgbClr val="000000"/>
                </a:solidFill>
                <a:latin typeface="Arial"/>
              </a:rPr>
              <a:t>savent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qu’elles travaillent avec des NM, donnent des informations/formation aux travailleurs (mais parfois problèmes avec l’utilisation des EP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Généralement: </a:t>
            </a:r>
            <a:r>
              <a:rPr b="0" i="1" lang="fr-FR" sz="2500" spc="-1" strike="noStrike">
                <a:solidFill>
                  <a:srgbClr val="000000"/>
                </a:solidFill>
                <a:latin typeface="Arial"/>
              </a:rPr>
              <a:t>très peu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e mesurag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6348-E323-410B-87A5-0AAA24A727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-4932360" y="-1539720"/>
            <a:ext cx="476892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onnées préliminaires du SPF Emploi (LT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Quelques constatations préliminaires sur la base des mesurages réalisé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cessus industriels classiques avec production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 non-intentionnell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e NM donnent les plus hautes expositions (exprimée en µm²/cm³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 plupart du temps, les processus industriels de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production intentionnelle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 NM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où le LTI a mesuré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emblent être bien géré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602E-C6F5-4ABA-8DCA-411818FB68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Helvetica 55 Roman"/>
              </a:rPr>
              <a:t>Contexte légal bel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Loi sur le 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oi BET 1996 et AR 11/03/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alyse des risques (PD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cénarios d’ex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sures de prévention priori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upprimer le d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mplacer ce qui est dangereux par ce qui l’est pas ou m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EB1F-63F3-4A87-82A4-8399DC4309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Travail avec des agents chim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Définition d’une activité impliquant des agents chimiques (AR 11/03/2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Tout travail dans lequel des agents chimiques sont utilisés ou destinés à être utilisés dans tout processus, y compris la production, la manutention, le stockage, le transport ou l’élimination et le traitement ou au cours duquel de tels agents sont produ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rt. 46. AR 11/03/2002 (V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L’employeur est tenu de maintenir l’exposition aussi basse que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Pas de spécifications sur les nanomatéria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82E-84BC-4980-9E12-42FA31E798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ravail avec des agents chim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AR du 11 mars 2002 relatif à la protection de la santé et de la sécurité des travailleurs contre les risques liés </a:t>
            </a:r>
            <a:r>
              <a:rPr b="0" lang="fr-BE" sz="3000" spc="-1" strike="noStrike" u="sng">
                <a:solidFill>
                  <a:srgbClr val="000000"/>
                </a:solidFill>
                <a:uFillTx/>
                <a:latin typeface="Arial"/>
              </a:rPr>
              <a:t>à des agents chimiques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sur leur lieu de trav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ART.8. Évaluation des ris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1. Propriétés dangere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2. S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3. Niveau, type et durée d’expo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4. Conditions et contraintes de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5. V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6. Mesures de prévention prises ou à pren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7. Surveillance de la san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9DB-0D62-45E2-947B-EDA1B048915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Présentation FG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Organisation du BET en 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Nanomatéri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Intro et con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Historique de notre action synd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Travail de sensibilisation des différents acteurs du monde du trav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Actions fu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ECA8-29B6-468F-B7DD-E9875D9449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ravail avec des agents chim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Mesur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Art. 20. Norme NBN EN 689 (Atmosphères des lieux de travail – conseils pour l’évaluation de l’exposition aux agents chimiques aux fins de comparaison avec les valeurs limites et stratégie de mesurag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L’employeur fait procéder à des mesurages de l’exposition ou à des analyses des substances et préparations mises en oeuvre à la demande du CP ou des représentants des travailleurs au CP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En cas de contestations sur la fiabilité des mesurages </a:t>
            </a:r>
            <a:r>
              <a:rPr b="0" lang="nl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laboratoire agré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D55-C637-4C90-80EA-EF79E558D2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ravail avec des agents chim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formation des travaill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rt 29. Résultats de l’analyse des risques, SDS et rapports de mesu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onnées actualisées </a:t>
            </a:r>
            <a:r>
              <a:rPr b="0" lang="nl-BE" sz="2800" spc="-1" strike="noStrike" u="sng">
                <a:solidFill>
                  <a:srgbClr val="000000"/>
                </a:solidFill>
                <a:uFillTx/>
                <a:latin typeface="Arial"/>
              </a:rPr>
              <a:t>consta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A4E4-72E9-4D25-A601-A902F73BE53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ravail avec des agents cancérogènes et mutagè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R 2/12/1993 Agents cancérogènes et mutagè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rt. 13. Registre des travailleurs exposés – info au travailleur personnellement, le CPPT a accès aux données collectives anonymis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rt. 15. Le travailleur reçoit les informations relatives à la SS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88B2-6B81-4C18-86C8-EF1EC858E8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rveillance de la san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’employeur décide si le travailleur est soumis ou pas à la surveillance de la san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 médecin du travail décide si le travailleur est apte, apte sous conditions ou inapte à un poste de trav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 conseiller en prévention-médecin du travail est indépendant et neu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3FAC-0A7B-495E-A78B-8929E03781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rveillance de la san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AR 28/05/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Art. 5. L’employeur prend les mesures nécessaires afin que tout travailleur, s’il le souhaite, fasse l’objet d’une surveillance de la santé à intervalles réguli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Art. 7. Les listes sont annexées au PAA (présenté au CPP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000000"/>
                </a:solidFill>
                <a:latin typeface="Arial"/>
              </a:rPr>
              <a:t>Art. 9. L’employeur doit conserver toutes les listes pendant au moins cinq ans, à compter à partir du jour où elles ont été dressées, sur papier ou de manière électroniqu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Art. 37. Consultations spontanées: Tout travailleur (soumis ou non) peut demander une consultation auprès du M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F52-4AB0-47E3-9256-AF664CDD85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rveillance de la san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rt. 54. Les formulaires d’évaluation sont classés par l’employeur aussi longtemps que le travailleur est dans l’entreprise et au moins les 3 dernières anné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rt. 82. Contenu du dossier de san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Art. 85. Le dossier de santé est conservé pendant 15 ans au moins à dater au départ du travailleur. Il est ensuite détruit ou remis au médecin que le travailleur aura désigné (si demande en temps uti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4DC-5125-4D41-B760-F214C8E1F1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rveillance de la san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rt. 42. Extension de la surveillance de la santé. À l’initiative du CP MT, de l’employeur, des représentants des travailleurs, sur avis du Comité, et sur base de l’AR, la surveillance de la santé peut être étendue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ux travailleurs qui sont occupés dans l’environnement immédiat du poste de travail d’un travailleur soumis à la surveillance de sant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86A5-070D-44D0-84F6-D710C89803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Rapport annuel des SE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3 SEPPT couvrent le territoire be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apport annuel remis à l’administration du SPF Emploi (2011) – remplissage aléatoir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010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E34-C036-40A1-96EF-1E7A70F75C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Points import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Presque pas de prise en compte des substances sous forme n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Mais obligation d’analyse des risques et politique de pré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L’inspection du travail manque de moyens techniques, financier et en personn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Possibilités de suivi par le médecin du travail même si non soum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Importance de garder/demander tous les document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AA1-D6FD-4DDD-8F5F-EAC72FDE8D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Helvetica 55 Roman"/>
              </a:rPr>
              <a:t>Actions syndi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à coins arrondis 4"/>
          <p:cNvSpPr/>
          <p:nvPr/>
        </p:nvSpPr>
        <p:spPr>
          <a:xfrm>
            <a:off x="1908000" y="1700280"/>
            <a:ext cx="5400720" cy="1081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FGTB-ABV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FÉDÉ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P:\LOGO\Logos\ABVV\JPG\color\ABVV_FGTB_Samen.jpg"/>
          <p:cNvPicPr/>
          <p:nvPr/>
        </p:nvPicPr>
        <p:blipFill>
          <a:blip r:embed="rId1"/>
          <a:stretch/>
        </p:blipFill>
        <p:spPr>
          <a:xfrm>
            <a:off x="2916360" y="287280"/>
            <a:ext cx="3470040" cy="1125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à coins arrondis 9"/>
          <p:cNvSpPr/>
          <p:nvPr/>
        </p:nvSpPr>
        <p:spPr>
          <a:xfrm>
            <a:off x="826920" y="2997360"/>
            <a:ext cx="2376720" cy="863280"/>
          </a:xfrm>
          <a:prstGeom prst="roundRect">
            <a:avLst>
              <a:gd name="adj" fmla="val 16667"/>
            </a:avLst>
          </a:prstGeom>
          <a:solidFill>
            <a:srgbClr val="f84e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INTERREGIONALE FLA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à coins arrondis 10"/>
          <p:cNvSpPr/>
          <p:nvPr/>
        </p:nvSpPr>
        <p:spPr>
          <a:xfrm>
            <a:off x="3635280" y="2997360"/>
            <a:ext cx="2305080" cy="863280"/>
          </a:xfrm>
          <a:prstGeom prst="roundRect">
            <a:avLst>
              <a:gd name="adj" fmla="val 16667"/>
            </a:avLst>
          </a:prstGeom>
          <a:solidFill>
            <a:srgbClr val="f84e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INTERREGIONALE B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11"/>
          <p:cNvSpPr/>
          <p:nvPr/>
        </p:nvSpPr>
        <p:spPr>
          <a:xfrm>
            <a:off x="6443640" y="2997360"/>
            <a:ext cx="2305080" cy="863280"/>
          </a:xfrm>
          <a:prstGeom prst="roundRect">
            <a:avLst>
              <a:gd name="adj" fmla="val 16667"/>
            </a:avLst>
          </a:prstGeom>
          <a:solidFill>
            <a:srgbClr val="f84e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INTERREGIONALE WAL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12"/>
          <p:cNvSpPr/>
          <p:nvPr/>
        </p:nvSpPr>
        <p:spPr>
          <a:xfrm>
            <a:off x="7812000" y="472428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T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à coins arrondis 13"/>
          <p:cNvSpPr/>
          <p:nvPr/>
        </p:nvSpPr>
        <p:spPr>
          <a:xfrm>
            <a:off x="34920" y="472428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à coins arrondis 14"/>
          <p:cNvSpPr/>
          <p:nvPr/>
        </p:nvSpPr>
        <p:spPr>
          <a:xfrm>
            <a:off x="1332000" y="4724280"/>
            <a:ext cx="12952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SET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15"/>
          <p:cNvSpPr/>
          <p:nvPr/>
        </p:nvSpPr>
        <p:spPr>
          <a:xfrm>
            <a:off x="2627280" y="472428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CG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16"/>
          <p:cNvSpPr/>
          <p:nvPr/>
        </p:nvSpPr>
        <p:spPr>
          <a:xfrm>
            <a:off x="3924360" y="4724280"/>
            <a:ext cx="12952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MW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à coins arrondis 17"/>
          <p:cNvSpPr/>
          <p:nvPr/>
        </p:nvSpPr>
        <p:spPr>
          <a:xfrm>
            <a:off x="5219640" y="4724280"/>
            <a:ext cx="12970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HO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18"/>
          <p:cNvSpPr/>
          <p:nvPr/>
        </p:nvSpPr>
        <p:spPr>
          <a:xfrm>
            <a:off x="6516720" y="4724280"/>
            <a:ext cx="1295280" cy="576360"/>
          </a:xfrm>
          <a:prstGeom prst="roundRect">
            <a:avLst>
              <a:gd name="adj" fmla="val 16667"/>
            </a:avLst>
          </a:prstGeom>
          <a:solidFill>
            <a:srgbClr val="e509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U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19"/>
          <p:cNvSpPr/>
          <p:nvPr/>
        </p:nvSpPr>
        <p:spPr>
          <a:xfrm>
            <a:off x="179280" y="4076640"/>
            <a:ext cx="5050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"/>
              </a:rPr>
              <a:t>BX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à coins arrondis 22"/>
          <p:cNvSpPr/>
          <p:nvPr/>
        </p:nvSpPr>
        <p:spPr>
          <a:xfrm>
            <a:off x="684360" y="4076640"/>
            <a:ext cx="5029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23"/>
          <p:cNvSpPr/>
          <p:nvPr/>
        </p:nvSpPr>
        <p:spPr>
          <a:xfrm>
            <a:off x="1187280" y="4076640"/>
            <a:ext cx="5050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"/>
              </a:rPr>
              <a:t>B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à coins arrondis 24"/>
          <p:cNvSpPr/>
          <p:nvPr/>
        </p:nvSpPr>
        <p:spPr>
          <a:xfrm>
            <a:off x="169236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Antwerp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à coins arrondis 25"/>
          <p:cNvSpPr/>
          <p:nvPr/>
        </p:nvSpPr>
        <p:spPr>
          <a:xfrm>
            <a:off x="219564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Arial"/>
              </a:rPr>
              <a:t>Cen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à coins arrondis 26"/>
          <p:cNvSpPr/>
          <p:nvPr/>
        </p:nvSpPr>
        <p:spPr>
          <a:xfrm>
            <a:off x="270036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ffffff"/>
                </a:solidFill>
                <a:latin typeface="Arial"/>
              </a:rPr>
              <a:t>Charleroi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ffffff"/>
                </a:solidFill>
                <a:latin typeface="Arial"/>
              </a:rPr>
              <a:t>Hainaut S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27"/>
          <p:cNvSpPr/>
          <p:nvPr/>
        </p:nvSpPr>
        <p:spPr>
          <a:xfrm>
            <a:off x="320364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Liè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Hu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Warem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28"/>
          <p:cNvSpPr/>
          <p:nvPr/>
        </p:nvSpPr>
        <p:spPr>
          <a:xfrm>
            <a:off x="370836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Limbu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29"/>
          <p:cNvSpPr/>
          <p:nvPr/>
        </p:nvSpPr>
        <p:spPr>
          <a:xfrm>
            <a:off x="421164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"/>
              </a:rPr>
              <a:t>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30"/>
          <p:cNvSpPr/>
          <p:nvPr/>
        </p:nvSpPr>
        <p:spPr>
          <a:xfrm>
            <a:off x="471636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Arial"/>
              </a:rPr>
              <a:t>Mech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à coins arrondis 31"/>
          <p:cNvSpPr/>
          <p:nvPr/>
        </p:nvSpPr>
        <p:spPr>
          <a:xfrm>
            <a:off x="521964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ffffff"/>
                </a:solidFill>
                <a:latin typeface="Arial"/>
              </a:rPr>
              <a:t>M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32"/>
          <p:cNvSpPr/>
          <p:nvPr/>
        </p:nvSpPr>
        <p:spPr>
          <a:xfrm>
            <a:off x="572436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Arial"/>
              </a:rPr>
              <a:t>Mousc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à coins arrondis 33"/>
          <p:cNvSpPr/>
          <p:nvPr/>
        </p:nvSpPr>
        <p:spPr>
          <a:xfrm>
            <a:off x="6227640" y="4076640"/>
            <a:ext cx="5050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ffffff"/>
                </a:solidFill>
                <a:latin typeface="Arial"/>
              </a:rPr>
              <a:t>Nam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à coins arrondis 34"/>
          <p:cNvSpPr/>
          <p:nvPr/>
        </p:nvSpPr>
        <p:spPr>
          <a:xfrm>
            <a:off x="673272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Arial"/>
              </a:rPr>
              <a:t>Oost 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35"/>
          <p:cNvSpPr/>
          <p:nvPr/>
        </p:nvSpPr>
        <p:spPr>
          <a:xfrm>
            <a:off x="723600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Tournai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Ath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Lessin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36"/>
          <p:cNvSpPr/>
          <p:nvPr/>
        </p:nvSpPr>
        <p:spPr>
          <a:xfrm>
            <a:off x="7740720" y="4076640"/>
            <a:ext cx="50328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Arial"/>
              </a:rPr>
              <a:t>Vervie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à coins arrondis 37"/>
          <p:cNvSpPr/>
          <p:nvPr/>
        </p:nvSpPr>
        <p:spPr>
          <a:xfrm>
            <a:off x="8244000" y="4076640"/>
            <a:ext cx="504720" cy="432000"/>
          </a:xfrm>
          <a:prstGeom prst="roundRect">
            <a:avLst>
              <a:gd name="adj" fmla="val 16667"/>
            </a:avLst>
          </a:prstGeom>
          <a:solidFill>
            <a:srgbClr val="ff535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Arial"/>
              </a:rPr>
              <a:t>West 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38"/>
          <p:cNvSpPr/>
          <p:nvPr/>
        </p:nvSpPr>
        <p:spPr>
          <a:xfrm>
            <a:off x="324000" y="5805360"/>
            <a:ext cx="8351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0000"/>
                </a:solidFill>
                <a:latin typeface="Arial"/>
              </a:rPr>
              <a:t>1 503 000 me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003E-9C0F-4218-9DFF-EABCE4DDF337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28/05/2009: Résolution de la Chambre des représentants relative aux nanosciences et aux nanotechnologies qui plaide pour un inventaire des recherches et des mesures prises quant à la gestion des ris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2010: Présidence belge du Conseil de l’UE </a:t>
            </a:r>
            <a:r>
              <a:rPr b="0" lang="nl-B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500" spc="-1" strike="noStrike">
                <a:solidFill>
                  <a:srgbClr val="000000"/>
                </a:solidFill>
                <a:latin typeface="Arial"/>
              </a:rPr>
              <a:t> conférence consacrée au développement d’instruments de gestion et d’information concernant les nanomatériaux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000000"/>
                </a:solidFill>
                <a:latin typeface="Arial"/>
              </a:rPr>
              <a:t>Avis séparés (même pas divisés) car consensus im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</a:rPr>
              <a:t>organisations syndicales, représentants de consommateurs, environnement,  ONG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</a:rPr>
              <a:t>représentants des entrepri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25F-3C78-43C7-BE1D-3E514A05FD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Journée d’étu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Arial"/>
              </a:rPr>
              <a:t>Const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rop peu de connaissances des expositions/risques/précautions – même parmi les médecins du travail ou ligne hiérarchique/employeur/conseillers en préven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e des risque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positions évidentes des travailleurs avec mesures de précaution prises “à la carte” (hiérarchie de la préven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Quid des PME sans contrôle syn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mportance de mesures politiques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principe de précaution, inspection du trav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raintes grandissantes des travaill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A770-E843-4134-B8E8-CF2DA5CEED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rochure d’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29D-A887-4F8C-8473-0043188D89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99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roch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Espace réservé du contenu 4" descr="schéma chaine nano FR.jpg"/>
          <p:cNvPicPr/>
          <p:nvPr/>
        </p:nvPicPr>
        <p:blipFill>
          <a:blip r:embed="rId1"/>
          <a:stretch/>
        </p:blipFill>
        <p:spPr>
          <a:xfrm>
            <a:off x="1008000" y="1855800"/>
            <a:ext cx="71280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EF16-1F16-40D3-AB24-348B1F19FD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7"/>
          <p:cNvSpPr/>
          <p:nvPr/>
        </p:nvSpPr>
        <p:spPr>
          <a:xfrm>
            <a:off x="324000" y="638172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 inspirée de :Nanoscience and Nanotechnologies; joint report produced by the Royal Society and the Royal Academy of Engineering. Original diagram created by the National Institute for Resources and Environment, Jap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Espace réservé du contenu 4" descr="NANO arbre décisionn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3376-2520-44F1-95BF-72FEE0931C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5"/>
          <p:cNvSpPr/>
          <p:nvPr/>
        </p:nvSpPr>
        <p:spPr>
          <a:xfrm>
            <a:off x="5867280" y="6453360"/>
            <a:ext cx="22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Source inspirée du FNV </a:t>
            </a:r>
            <a:r>
              <a:rPr b="0" lang="fr-FR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nowijzer.nl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012: Rencontres multiples avec les cabinets des Ministres concern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ommunications dans la p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rganisation d’une grande journée d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ublication de brochures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013 Multiplication des journées d’étude, colloques, articles et reportage de p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007A-7677-436D-B2E3-6A12066947A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Vers la création d’un registre belg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CA4-B914-4CE9-8653-D89B9A98B6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Espace réservé du contenu 2"/>
          <p:cNvSpPr/>
          <p:nvPr/>
        </p:nvSpPr>
        <p:spPr>
          <a:xfrm>
            <a:off x="457200" y="1600200"/>
            <a:ext cx="46195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À l’initiative de la Ministre des Affaires Sociales et de la Santé Publ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rojet d’AR relatif à la mise sur le marché des substances manufacturées à l’état nanoparticul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6"/>
          <p:cNvSpPr/>
          <p:nvPr/>
        </p:nvSpPr>
        <p:spPr>
          <a:xfrm>
            <a:off x="5219640" y="630864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Le Soir, 5 octobre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Objectifs du regi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Toute entreprise qui met sur le marché une substance à l’état nanoparticulaire ou un article en contenant doit l’enregistrer au préa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Timing prévu: 2015 (substances) et 2016 (mélan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L’instauration de ce registre a pour objectif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’acquérir un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meilleure connaissance du marché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, des caractéristiques des nanomatériaux et du risque potentiel d’exposition des êtres humains à ces substances 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’assurer la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transparence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et de renforcer la confiance du public et des travailleurs vis-à-vis de ces substances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’assurer la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traçabilité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et ainsi rendre l’intervention des autorités publiques possible en cas de risque pour la santé publique ou la sécurité des travailleurs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e mettre en place un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base de connaissance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qui pourrait être nécessaire à l’évolution réglementaire future au niveau national et européen en ce qui concerne ces substances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e veiller à ce que l’évolution de cette technologie innovante s’effectue en harmonie avec la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préservation de la santé humaine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D059-617B-48E1-A60F-B261E089CE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Projet regi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000000"/>
                </a:solidFill>
                <a:uFillTx/>
                <a:latin typeface="Arial"/>
              </a:rPr>
              <a:t>Déclarati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bricants, importateurs, utilisateurs en aval &gt; mise sur le marché pour utilisateurs professionn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cop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avec exceptions) : sur base de la définition recommandée par la CE 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nomateriaux substances et mélanges contenant des NM (qui peuvent être extraits ou libér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ticles pour lesquelles des NM sont utilisés lors de la fabrication ou qui contiennent des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uil : 10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70B7-83D2-4C2D-8FA2-939EA09255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Projet regi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Fréquenc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ann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Renseignements demandé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té décla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té substance (composition chimique / caractéristiques des partic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antité (kg/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pré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ication des utilisateurs profess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ous les renseignements obtenus sont confidenti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claration &gt; numéro de décl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E17F-B600-48E2-A1C6-2FA114AC67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Helvetica 55 Roman"/>
              </a:rPr>
              <a:t>Bien-être, Santé et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ritiques du 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xce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as d’enregistrement des travailleurs exposés – pas d’information prév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nque de suivi du SPF Emploi (et de l’inspection) car BD propriété du SPF Environnement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possibilités d’accès aux données sur demande et au cas par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E13-59A0-43DE-BF67-CCC618F0E5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iv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out peut encore être modif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nalyse de l’administration et soumission aux cabinets Ministé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pprobation au Conseil des Min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2AD-616F-464C-94A7-CD2E028D27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uivi synd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obbying auprès des cabi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aste campagne d’information prévue par une de nos centrales à la sortie de l’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CF81-0AF0-4F96-8142-2A2DFF4BBF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Helvetica 55 Roman"/>
              </a:rPr>
              <a:t>Merci</a:t>
            </a:r>
            <a:br>
              <a:rPr sz="4000"/>
            </a:br>
            <a:br>
              <a:rPr sz="1800"/>
            </a:br>
            <a:r>
              <a:rPr b="0" lang="fr-BE" sz="1800" spc="-1" strike="noStrike">
                <a:solidFill>
                  <a:srgbClr val="ffffff"/>
                </a:solidFill>
                <a:latin typeface="Helvetica 55 Roman"/>
              </a:rPr>
              <a:t>caroline.verdoot@fgtb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P:\LOGO\Logos\ABVV\JPG\color\ABVV_FGTB.jpg"/>
          <p:cNvPicPr/>
          <p:nvPr/>
        </p:nvPicPr>
        <p:blipFill>
          <a:blip r:embed="rId2"/>
          <a:stretch/>
        </p:blipFill>
        <p:spPr>
          <a:xfrm>
            <a:off x="4932360" y="189000"/>
            <a:ext cx="406404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ien-Etre au Trav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3"/>
          <p:cNvSpPr/>
          <p:nvPr/>
        </p:nvSpPr>
        <p:spPr>
          <a:xfrm>
            <a:off x="1187280" y="1773360"/>
            <a:ext cx="6769440" cy="71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Directive Cadre Européenne 12/06/1989 (DIR 89/391/C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à coins arrondis 4"/>
          <p:cNvSpPr/>
          <p:nvPr/>
        </p:nvSpPr>
        <p:spPr>
          <a:xfrm>
            <a:off x="1187280" y="2852640"/>
            <a:ext cx="6769440" cy="93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Loi du 04/08/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à coins arrondis 5"/>
          <p:cNvSpPr/>
          <p:nvPr/>
        </p:nvSpPr>
        <p:spPr>
          <a:xfrm>
            <a:off x="1187280" y="4292640"/>
            <a:ext cx="2016360" cy="93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Arrêtés royaux d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èche droite 6"/>
          <p:cNvSpPr/>
          <p:nvPr/>
        </p:nvSpPr>
        <p:spPr>
          <a:xfrm>
            <a:off x="3276720" y="4581360"/>
            <a:ext cx="1871640" cy="360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7"/>
          <p:cNvSpPr/>
          <p:nvPr/>
        </p:nvSpPr>
        <p:spPr>
          <a:xfrm>
            <a:off x="5292720" y="3933720"/>
            <a:ext cx="2808360" cy="1656000"/>
          </a:xfrm>
          <a:prstGeom prst="ellipse">
            <a:avLst/>
          </a:prstGeom>
          <a:solidFill>
            <a:srgbClr val="cc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Code sur le Bien-Etre au Travail (&gt;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èche vers le bas 8"/>
          <p:cNvSpPr/>
          <p:nvPr/>
        </p:nvSpPr>
        <p:spPr>
          <a:xfrm>
            <a:off x="4500720" y="2492280"/>
            <a:ext cx="44280" cy="216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èche vers le bas 9"/>
          <p:cNvSpPr/>
          <p:nvPr/>
        </p:nvSpPr>
        <p:spPr>
          <a:xfrm>
            <a:off x="2124000" y="3860640"/>
            <a:ext cx="144360" cy="36036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à coins arrondis 10"/>
          <p:cNvSpPr/>
          <p:nvPr/>
        </p:nvSpPr>
        <p:spPr>
          <a:xfrm>
            <a:off x="5651640" y="3429000"/>
            <a:ext cx="3384360" cy="863640"/>
          </a:xfrm>
          <a:prstGeom prst="roundRect">
            <a:avLst>
              <a:gd name="adj" fmla="val 16667"/>
            </a:avLst>
          </a:prstGeom>
          <a:solidFill>
            <a:srgbClr val="d9d9d9">
              <a:alpha val="7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RGPT 19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Remplacement progress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437-6D35-4C4C-BF89-9E6B9D6ECCBC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7 domaines du 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C831-D50D-4723-BB93-732909FB6EF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sécurité du travail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protection de la santé du travail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harge psychosociale occasionnée par l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'ergonomi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'hygiène du travail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'embellissement des lieux de travail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 mesures en matière d'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à coins arrondis 25"/>
          <p:cNvSpPr/>
          <p:nvPr/>
        </p:nvSpPr>
        <p:spPr>
          <a:xfrm>
            <a:off x="538200" y="1844640"/>
            <a:ext cx="8136000" cy="360036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cteurs bien-être au trav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4"/>
          <p:cNvSpPr/>
          <p:nvPr/>
        </p:nvSpPr>
        <p:spPr>
          <a:xfrm>
            <a:off x="468360" y="2174760"/>
            <a:ext cx="2085840" cy="103824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TRAVAIL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à coins arrondis 5"/>
          <p:cNvSpPr/>
          <p:nvPr/>
        </p:nvSpPr>
        <p:spPr>
          <a:xfrm>
            <a:off x="468360" y="3830760"/>
            <a:ext cx="2085840" cy="103824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DELEGUES TRAVAIL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à coins arrondis 6"/>
          <p:cNvSpPr/>
          <p:nvPr/>
        </p:nvSpPr>
        <p:spPr>
          <a:xfrm>
            <a:off x="6443640" y="3830760"/>
            <a:ext cx="2085840" cy="1038240"/>
          </a:xfrm>
          <a:prstGeom prst="roundRect">
            <a:avLst>
              <a:gd name="adj" fmla="val 16667"/>
            </a:avLst>
          </a:prstGeom>
          <a:solidFill>
            <a:srgbClr val="28ccb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EMPLOY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(Responsab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à coins arrondis 7"/>
          <p:cNvSpPr/>
          <p:nvPr/>
        </p:nvSpPr>
        <p:spPr>
          <a:xfrm>
            <a:off x="3492360" y="4334040"/>
            <a:ext cx="2086200" cy="10396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PPT (&gt;50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à coins arrondis 8"/>
          <p:cNvSpPr/>
          <p:nvPr/>
        </p:nvSpPr>
        <p:spPr>
          <a:xfrm>
            <a:off x="6443640" y="2174760"/>
            <a:ext cx="2085840" cy="1038240"/>
          </a:xfrm>
          <a:prstGeom prst="roundRect">
            <a:avLst>
              <a:gd name="adj" fmla="val 16667"/>
            </a:avLst>
          </a:prstGeom>
          <a:solidFill>
            <a:srgbClr val="28ccb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LIGNE HIERARCH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(Politique de préven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à coins arrondis 9"/>
          <p:cNvSpPr/>
          <p:nvPr/>
        </p:nvSpPr>
        <p:spPr>
          <a:xfrm>
            <a:off x="539640" y="5702400"/>
            <a:ext cx="2086200" cy="1039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E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à coins arrondis 10"/>
          <p:cNvSpPr/>
          <p:nvPr/>
        </p:nvSpPr>
        <p:spPr>
          <a:xfrm>
            <a:off x="3419640" y="5702400"/>
            <a:ext cx="2085840" cy="1039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ONTROLE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à coins arrondis 11"/>
          <p:cNvSpPr/>
          <p:nvPr/>
        </p:nvSpPr>
        <p:spPr>
          <a:xfrm>
            <a:off x="6372360" y="5702400"/>
            <a:ext cx="2085840" cy="1039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PF ET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Connecteur droit avec flèche 13"/>
          <p:cNvCxnSpPr/>
          <p:nvPr/>
        </p:nvCxnSpPr>
        <p:spPr>
          <a:xfrm>
            <a:off x="1472760" y="3300120"/>
            <a:ext cx="1080" cy="4165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5" name="Connecteur droit avec flèche 16"/>
          <p:cNvCxnSpPr/>
          <p:nvPr/>
        </p:nvCxnSpPr>
        <p:spPr>
          <a:xfrm flipH="1">
            <a:off x="2696760" y="3390840"/>
            <a:ext cx="37440" cy="8308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6" name="Connecteur droit avec flèche 18"/>
          <p:cNvCxnSpPr/>
          <p:nvPr/>
        </p:nvCxnSpPr>
        <p:spPr>
          <a:xfrm>
            <a:off x="5252760" y="3394080"/>
            <a:ext cx="973800" cy="8992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7" name="Connecteur droit avec flèche 20"/>
          <p:cNvCxnSpPr/>
          <p:nvPr/>
        </p:nvCxnSpPr>
        <p:spPr>
          <a:xfrm>
            <a:off x="4497120" y="3459240"/>
            <a:ext cx="1080" cy="7624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8" name="Connecteur droit avec flèche 22"/>
          <p:cNvCxnSpPr/>
          <p:nvPr/>
        </p:nvCxnSpPr>
        <p:spPr>
          <a:xfrm>
            <a:off x="2651040" y="4723920"/>
            <a:ext cx="6962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9" name="Connecteur droit avec flèche 24"/>
          <p:cNvCxnSpPr/>
          <p:nvPr/>
        </p:nvCxnSpPr>
        <p:spPr>
          <a:xfrm flipH="1">
            <a:off x="5720760" y="4723920"/>
            <a:ext cx="1980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0" name="Rectangle à coins arrondis 26"/>
          <p:cNvSpPr/>
          <p:nvPr/>
        </p:nvSpPr>
        <p:spPr>
          <a:xfrm>
            <a:off x="3492360" y="2174760"/>
            <a:ext cx="2086200" cy="103824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I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(Assistance et Conseil par Conseillers en prévention (&gt;20T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cteur droit avec flèche 35"/>
          <p:cNvCxnSpPr/>
          <p:nvPr/>
        </p:nvCxnSpPr>
        <p:spPr>
          <a:xfrm flipV="1">
            <a:off x="7521120" y="3284280"/>
            <a:ext cx="1080" cy="165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2" name="Espace réservé du numéro de diapositive 19"/>
          <p:cNvSpPr/>
          <p:nvPr/>
        </p:nvSpPr>
        <p:spPr>
          <a:xfrm>
            <a:off x="6659640" y="6283440"/>
            <a:ext cx="2060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BE3-208E-4D44-BE8A-0E0FF6CB8A0E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Connecteur droit avec flèche 34"/>
          <p:cNvCxnSpPr/>
          <p:nvPr/>
        </p:nvCxnSpPr>
        <p:spPr>
          <a:xfrm flipH="1">
            <a:off x="5721480" y="4723920"/>
            <a:ext cx="576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4" name="Connecteur droit avec flèche 36"/>
          <p:cNvCxnSpPr/>
          <p:nvPr/>
        </p:nvCxnSpPr>
        <p:spPr>
          <a:xfrm flipV="1">
            <a:off x="7521120" y="3283920"/>
            <a:ext cx="1080" cy="4323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ervice Interne ou Exter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8B2-D7C7-45EB-ACBE-412416630E1D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e 16"/>
          <p:cNvGrpSpPr/>
          <p:nvPr/>
        </p:nvGrpSpPr>
        <p:grpSpPr>
          <a:xfrm>
            <a:off x="2700360" y="2060640"/>
            <a:ext cx="3166920" cy="3600360"/>
            <a:chOff x="2700360" y="2060640"/>
            <a:chExt cx="3166920" cy="3600360"/>
          </a:xfrm>
        </p:grpSpPr>
        <p:sp>
          <p:nvSpPr>
            <p:cNvPr id="128" name="Rectangle 5"/>
            <p:cNvSpPr/>
            <p:nvPr/>
          </p:nvSpPr>
          <p:spPr>
            <a:xfrm>
              <a:off x="2700360" y="2060640"/>
              <a:ext cx="3166920" cy="3603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Système dynamique de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des risq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2700360" y="2708280"/>
              <a:ext cx="3166920" cy="3603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Plan Global de Préven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2700360" y="3357720"/>
              <a:ext cx="3166920" cy="3585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Plan Annuel d’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2700360" y="4005360"/>
              <a:ext cx="3166920" cy="3603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Tâches et missions à exéc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"/>
            <p:cNvSpPr/>
            <p:nvPr/>
          </p:nvSpPr>
          <p:spPr>
            <a:xfrm>
              <a:off x="2700360" y="4653000"/>
              <a:ext cx="3166920" cy="3603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Choix de l’expertise nécess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onnecteur droit 10"/>
            <p:cNvSpPr/>
            <p:nvPr/>
          </p:nvSpPr>
          <p:spPr>
            <a:xfrm flipV="1">
              <a:off x="4282920" y="2421000"/>
              <a:ext cx="0" cy="287280"/>
            </a:xfrm>
            <a:prstGeom prst="line">
              <a:avLst/>
            </a:prstGeom>
            <a:ln w="2844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onnecteur droit 11"/>
            <p:cNvSpPr/>
            <p:nvPr/>
          </p:nvSpPr>
          <p:spPr>
            <a:xfrm flipV="1">
              <a:off x="4282920" y="3068640"/>
              <a:ext cx="0" cy="288720"/>
            </a:xfrm>
            <a:prstGeom prst="line">
              <a:avLst/>
            </a:prstGeom>
            <a:ln w="2844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onnecteur droit 12"/>
            <p:cNvSpPr/>
            <p:nvPr/>
          </p:nvSpPr>
          <p:spPr>
            <a:xfrm flipV="1">
              <a:off x="4282920" y="3716280"/>
              <a:ext cx="0" cy="288720"/>
            </a:xfrm>
            <a:prstGeom prst="line">
              <a:avLst/>
            </a:prstGeom>
            <a:ln w="2844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onnecteur droit 13"/>
            <p:cNvSpPr/>
            <p:nvPr/>
          </p:nvSpPr>
          <p:spPr>
            <a:xfrm flipV="1">
              <a:off x="4282920" y="4365720"/>
              <a:ext cx="0" cy="287280"/>
            </a:xfrm>
            <a:prstGeom prst="line">
              <a:avLst/>
            </a:prstGeom>
            <a:ln w="2844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2700360" y="5300640"/>
              <a:ext cx="3166920" cy="360360"/>
            </a:xfrm>
            <a:prstGeom prst="rect">
              <a:avLst/>
            </a:prstGeom>
            <a:solidFill>
              <a:srgbClr val="bd1727"/>
            </a:solidFill>
            <a:ln w="2556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Arial"/>
                </a:rPr>
                <a:t>Choix entre interne et exter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onnecteur droit 15"/>
            <p:cNvSpPr/>
            <p:nvPr/>
          </p:nvSpPr>
          <p:spPr>
            <a:xfrm flipV="1">
              <a:off x="4282920" y="5013360"/>
              <a:ext cx="0" cy="287280"/>
            </a:xfrm>
            <a:prstGeom prst="line">
              <a:avLst/>
            </a:prstGeom>
            <a:ln w="28440">
              <a:solidFill>
                <a:srgbClr val="bd1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967120" y="265572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8920" y="2852640"/>
            <a:ext cx="6696000" cy="2016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55436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Helvetica 55 Roman"/>
              </a:rPr>
              <a:t>Nanomatéri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2:12:42Z</dcterms:created>
  <dc:creator>T00CDOOT</dc:creator>
  <dc:description/>
  <dc:language>en-US</dc:language>
  <cp:lastModifiedBy>Caroline Verdoot</cp:lastModifiedBy>
  <dcterms:modified xsi:type="dcterms:W3CDTF">2013-12-09T08:57:39Z</dcterms:modified>
  <cp:revision>213</cp:revision>
  <dc:subject/>
  <dc:title>Technostress  Bilbao 19-21 june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8599248</vt:r8>
  </property>
  <property fmtid="{D5CDD505-2E9C-101B-9397-08002B2CF9AE}" pid="3" name="_AuthorEmail">
    <vt:lpwstr>Caroline.VERDOOT@fgtb.be</vt:lpwstr>
  </property>
  <property fmtid="{D5CDD505-2E9C-101B-9397-08002B2CF9AE}" pid="4" name="_AuthorEmailDisplayName">
    <vt:lpwstr>VERDOOT Caroline</vt:lpwstr>
  </property>
  <property fmtid="{D5CDD505-2E9C-101B-9397-08002B2CF9AE}" pid="5" name="_EmailSubject">
    <vt:lpwstr>Remerciements et diaporama</vt:lpwstr>
  </property>
  <property fmtid="{D5CDD505-2E9C-101B-9397-08002B2CF9AE}" pid="6" name="_NewReviewCycle">
    <vt:lpwstr/>
  </property>
</Properties>
</file>